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A02-9B5E-4BDF-84F0-9456931C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A8C-157E-4E34-8CF1-1AB68022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524D5-60CA-4589-86A8-05A0C02F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BDF47-1171-4E86-894B-CA89BE64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0CE16-9737-42CA-A392-08389EFE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C8267-E1DA-4103-9EAE-56DF773A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A0FF2-9ECA-44A0-8F9D-1F3AEE52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3DAFC-51E8-4335-BD44-659E4483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109BB-0BE2-45BB-B95B-35AA8BCB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C52B7-1527-4B60-8DD8-13951E90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0EBCA-CE65-40BB-969B-A88993B3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747-3977-4189-BCE5-450D7489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A1A-FA1F-4B3F-8DE4-111C108A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69FA-A50D-476A-ADEB-84AD2386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29A0-D1C8-4022-86F5-6E25B5D8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8BAE-92F5-4338-81F8-F5C9B61A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8F32-2AF6-4CDF-8FF7-9F510F65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1B16-0569-4ABC-A79A-DC0521EB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9950-D045-40D8-8C9A-C4ED1D12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5F2F-201C-4EE9-AF70-997ADCC1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86A-987B-46D5-82D1-081090E8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E063-739A-4FA9-8A4C-552CB1D9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3A9F-3B1A-457C-B29B-4BDD1688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68FF-F9CD-4F4C-B1D1-8C3739D3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DFE8-9366-43D6-B9F6-03ACB85B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022C-1441-4C06-8AEF-6B40936B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1621-8045-47F0-B068-83C62605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CBEC-4AA9-49AB-9B40-B9EFC90B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8E4D-E86C-482F-983D-97A1A346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A450-A02C-44FD-B8BC-191C5179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2249-F7AF-4784-89BF-85F2BD94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B48-D1AA-482A-A768-04B135CA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BC801-4232-44D8-91F4-826DC585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ED79-E01B-4171-98A4-31A3A3A6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A602-96C1-407B-A874-5C079A57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25C9-8107-4C3A-B66E-03F78278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56A0-6925-479A-9574-93E075D4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6DA69-56BB-45C6-9A83-1B862AC9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72D7-7963-4C42-83D7-4B1108A2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6134-A71D-4797-B567-918A9DA7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65890-E55B-462F-AB9D-297A8E50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CA293-4334-4D67-9EF5-C081CE9D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77C-66B6-404E-8902-198EEE62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2230-A857-4DCB-93E6-EC94BB14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FC6D-B67C-4BE8-8F6E-8B3EB940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C6E85-BF97-49A1-8D46-60168713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3BB82-40B8-4AC8-8141-58A62A4E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83E9-AE66-470A-A47C-D8533A40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3905E-AAFB-4C62-89E8-09478A83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25AA-28A6-49DB-80AD-0F7F8B32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73FAB-797C-41B8-9FD6-A555322D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FBF60-367D-4D11-9D51-A4D1EFF7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95CD5-819B-4680-8F44-2CE16BE1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7D3-9658-4937-B0DD-4522DF84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15906-C981-4605-B7AC-EB92578A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81B3D-306F-4F93-B5B1-724D3971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37C7F-FECE-4D61-8D89-47E878E2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ABFE9-FC02-4F25-ACD1-8CAA2757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945BE-E747-4DDC-BF1F-4C0516D4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B601B-DDDF-4C55-AEF3-30891008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ABEFA-6207-4927-8B9B-2470E47F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B323F-A2D9-4AF8-86CD-38E9AD9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31FB5-522E-4C9D-83CE-12836BA6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14501-86A4-4DB8-A754-0B8F036E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536-B4F9-45D5-9070-833DE4B3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BEC49-8E60-46DB-9D2C-965E05DF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A1A38-C103-424B-9FA0-E973BC62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A4549-836C-4D3B-B49E-BE980F45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0BC6D-6AA8-4F5D-B515-4422E691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DC7FD-C2BB-423D-B38C-AB5349E8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463D4-8FE0-46A4-90BC-EE5449A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6EF75-1BE8-4632-812B-9B553684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BA819-DE77-4789-82A2-1F53A7C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58133-E3C3-4BD8-A884-17B7CA96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DC751-10FF-4DBC-B8E2-2D8DBFAE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65F-61E9-45CF-9140-2A0CBA49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C980C-FE83-4E70-AFFC-FB2E5893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21BD5-C52C-45E2-90B7-8C66D5D2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CCF5E-5ED1-4048-85E0-4565D614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A5F0D-8BFC-4CEF-94A5-5E91713F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9AD28-9DC1-4991-A1BB-263B7336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6249B-059C-457D-A5E8-14FCA57F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98686-8CF8-4259-A0AB-51AA4D32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3EE33-1FAA-42CD-94D6-6F7657BE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9853A-EDD3-4725-8593-A71C6B16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9F78A-A16A-41D9-99BC-9DB1492F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9CD-66AC-4FCF-8698-2E78F850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DF993-DCBE-42F1-AE4C-1A25021E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36C4E-6929-47C6-9F61-B2F180F3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CBDDE-8897-43E4-BD37-94556387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0CDAD-0E08-4F43-876D-180C58FC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7E012-FC3A-4474-8099-014CA136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8F41D-3DC4-4F32-BD5E-3E42AD4F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5F6DA-484F-469E-8929-F6123D26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521D2-1135-4AD0-A68D-549E1410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77132-F61A-40F0-A64E-3112AD86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19E94-29EF-44CE-82D0-E3AEBAD2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8B2-A7CA-470E-A190-EB1E1AD1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C578E-84FA-45E4-AFDE-047409C8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CB0BC-3A70-4622-961B-A07EC027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9F9FF-2BF2-4E4B-804B-32FA7F39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557B1-392E-4E96-8CB4-4F3401B7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B3265-7E37-4B86-8FFA-58970DEC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450E2-1CB1-49E3-8254-54978D49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CBE93-F4E6-46EE-BEBA-0372FA0C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DF78B-7420-46FF-9BFF-4A64FE32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723B0-CEF5-4EAA-BA29-1F2E3683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1520B-ADE8-4349-9FC8-46039493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75D2-59E3-45C4-AF82-EFA3FE7C5783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0F10-0DF2-4F3C-9CB4-2539E1621632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5EF8-4744-44BC-9FEA-29F07BC3EA6D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60FA-E4AF-4F30-B35D-252FE133CD1D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2330-CF83-45A6-A85B-C0E797EE8DCC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D424-5207-4F1C-8BFC-694E43522BD2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D402-431C-4C21-842C-F62FA161AD35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42ED-072D-4FB4-A880-9385F739B557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84F5-5CFA-477C-A29B-207E51CE4A36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714760" y="-360"/>
            <a:ext cx="4286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443329"/>
                </a:solidFill>
                <a:latin typeface="Symbol"/>
                <a:ea typeface="Symbol"/>
              </a:rPr>
              <a:t></a:t>
            </a:r>
            <a:endParaRPr b="0" lang="en-US" sz="51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4" descr="Imagen relacionada"/>
          <p:cNvPicPr/>
          <p:nvPr/>
        </p:nvPicPr>
        <p:blipFill>
          <a:blip r:embed="rId1"/>
          <a:stretch/>
        </p:blipFill>
        <p:spPr>
          <a:xfrm>
            <a:off x="2643120" y="928800"/>
            <a:ext cx="4286160" cy="5290920"/>
          </a:xfrm>
          <a:prstGeom prst="rect">
            <a:avLst/>
          </a:prstGeom>
          <a:ln w="0">
            <a:noFill/>
          </a:ln>
        </p:spPr>
      </p:pic>
      <p:sp>
        <p:nvSpPr>
          <p:cNvPr id="401" name="5 CuadroTexto"/>
          <p:cNvSpPr/>
          <p:nvPr/>
        </p:nvSpPr>
        <p:spPr>
          <a:xfrm>
            <a:off x="3357720" y="6000840"/>
            <a:ext cx="2928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ndalus"/>
                <a:ea typeface="Andalus"/>
              </a:rPr>
              <a:t>CLEOPAT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69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3760"/>
            <a:ext cx="86868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Andalus"/>
                <a:ea typeface="Andalus"/>
              </a:rPr>
              <a:t>Cleopatra fue reina de Egipto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Andalus"/>
                <a:ea typeface="Andalus"/>
              </a:rPr>
              <a:t>Nació en Alejandrí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Andalus"/>
                <a:ea typeface="Andalus"/>
              </a:rPr>
              <a:t>Su padre era el rey de Egipto, y cuando se murió, Cleopatra, de 17 años, y su hermano, de 12 años, fueron los rey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Andalus"/>
                <a:ea typeface="Andalus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6" descr="Imagen relacionada"/>
          <p:cNvPicPr/>
          <p:nvPr/>
        </p:nvPicPr>
        <p:blipFill>
          <a:blip r:embed="rId2"/>
          <a:stretch/>
        </p:blipFill>
        <p:spPr>
          <a:xfrm>
            <a:off x="7812000" y="115920"/>
            <a:ext cx="946080" cy="911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Resultado de imagen de images of egypt cleopatra"/>
          <p:cNvPicPr/>
          <p:nvPr/>
        </p:nvPicPr>
        <p:blipFill>
          <a:blip r:embed="rId3"/>
          <a:stretch/>
        </p:blipFill>
        <p:spPr>
          <a:xfrm>
            <a:off x="395280" y="4527720"/>
            <a:ext cx="2664000" cy="1996920"/>
          </a:xfrm>
          <a:prstGeom prst="rect">
            <a:avLst/>
          </a:prstGeom>
          <a:ln w="0">
            <a:noFill/>
          </a:ln>
        </p:spPr>
      </p:pic>
      <p:sp>
        <p:nvSpPr>
          <p:cNvPr id="406" name="2 Marcador de contenido"/>
          <p:cNvSpPr/>
          <p:nvPr/>
        </p:nvSpPr>
        <p:spPr>
          <a:xfrm>
            <a:off x="3376440" y="4527720"/>
            <a:ext cx="529776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Andalus"/>
                <a:ea typeface="Andalus"/>
              </a:rPr>
              <a:t>Cleopatra hablaba siete idi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Resultado de imagen de images of egypt cleopatra"/>
          <p:cNvPicPr/>
          <p:nvPr/>
        </p:nvPicPr>
        <p:blipFill>
          <a:blip r:embed="rId1"/>
          <a:stretch/>
        </p:blipFill>
        <p:spPr>
          <a:xfrm>
            <a:off x="1508040" y="260280"/>
            <a:ext cx="5943600" cy="30672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179280" y="3141720"/>
            <a:ext cx="8713800" cy="40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Cleopatra se casó con su hermano pequeño. Cleopatra eligió morir y decidió suicidar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Pidió a sus criadas que le trajeran una cesta con frutas y que metieran dentro una serp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2 Marcador de contenido"/>
          <p:cNvSpPr/>
          <p:nvPr/>
        </p:nvSpPr>
        <p:spPr>
          <a:xfrm>
            <a:off x="2771640" y="981000"/>
            <a:ext cx="6201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ndalus"/>
                <a:ea typeface="Andalus"/>
              </a:rPr>
              <a:t>Murió en Alejandría, Egip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Andalus"/>
                <a:ea typeface="Andalus"/>
              </a:rPr>
              <a:t>La vida de Cleopatra es muy interesante</a:t>
            </a:r>
            <a:r>
              <a:rPr b="0" lang="es-ES" sz="28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Resultado de imagen de map of ancient egypt"/>
          <p:cNvPicPr/>
          <p:nvPr/>
        </p:nvPicPr>
        <p:blipFill>
          <a:blip r:embed="rId1"/>
          <a:stretch/>
        </p:blipFill>
        <p:spPr>
          <a:xfrm>
            <a:off x="250920" y="642960"/>
            <a:ext cx="2376360" cy="3146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Resultado de imagen de cleopatra egipto"/>
          <p:cNvPicPr/>
          <p:nvPr/>
        </p:nvPicPr>
        <p:blipFill>
          <a:blip r:embed="rId2"/>
          <a:stretch/>
        </p:blipFill>
        <p:spPr>
          <a:xfrm>
            <a:off x="4878360" y="4365720"/>
            <a:ext cx="408636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1 CuadroTexto"/>
          <p:cNvSpPr/>
          <p:nvPr/>
        </p:nvSpPr>
        <p:spPr>
          <a:xfrm>
            <a:off x="665280" y="500040"/>
            <a:ext cx="772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ndalus"/>
                <a:ea typeface="Andalus"/>
              </a:rPr>
              <a:t>¿Dónde puedes ver la momia de Cleopat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2 CuadroTexto"/>
          <p:cNvSpPr/>
          <p:nvPr/>
        </p:nvSpPr>
        <p:spPr>
          <a:xfrm>
            <a:off x="955800" y="4005360"/>
            <a:ext cx="7072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alus"/>
                <a:ea typeface="Andalus"/>
              </a:rPr>
              <a:t>La momia de Cleopatra está en el Museo Británico de Londre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Deberíais ir a verla…. Yo pienso i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Imagen relacionada"/>
          <p:cNvPicPr/>
          <p:nvPr/>
        </p:nvPicPr>
        <p:blipFill>
          <a:blip r:embed="rId1"/>
          <a:stretch/>
        </p:blipFill>
        <p:spPr>
          <a:xfrm>
            <a:off x="928800" y="1125360"/>
            <a:ext cx="3571920" cy="2403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Resultado de imagen de british museum, london, cleopatra"/>
          <p:cNvPicPr/>
          <p:nvPr/>
        </p:nvPicPr>
        <p:blipFill>
          <a:blip r:embed="rId2"/>
          <a:stretch/>
        </p:blipFill>
        <p:spPr>
          <a:xfrm>
            <a:off x="4613400" y="1125360"/>
            <a:ext cx="4195800" cy="2428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Resultado de imagen de images of egypt cleopatra"/>
          <p:cNvPicPr/>
          <p:nvPr/>
        </p:nvPicPr>
        <p:blipFill>
          <a:blip r:embed="rId3">
            <a:alphaModFix amt="18000"/>
          </a:blip>
          <a:stretch/>
        </p:blipFill>
        <p:spPr>
          <a:xfrm>
            <a:off x="7380360" y="5589720"/>
            <a:ext cx="15652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6" descr="Imagen relacionada"/>
          <p:cNvPicPr/>
          <p:nvPr/>
        </p:nvPicPr>
        <p:blipFill>
          <a:blip r:embed="rId1"/>
          <a:stretch/>
        </p:blipFill>
        <p:spPr>
          <a:xfrm>
            <a:off x="2987640" y="1549440"/>
            <a:ext cx="3024360" cy="40402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2"/>
          <p:cNvSpPr/>
          <p:nvPr/>
        </p:nvSpPr>
        <p:spPr>
          <a:xfrm>
            <a:off x="2340000" y="580716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alus"/>
                <a:ea typeface="Andalus"/>
              </a:rPr>
              <a:t>Tiago Rial Silvestre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3132000" y="620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alus"/>
                <a:ea typeface="Andalus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Image result for gracias por vuestra atencion preguntas"/>
          <p:cNvPicPr/>
          <p:nvPr/>
        </p:nvPicPr>
        <p:blipFill>
          <a:blip r:embed="rId1"/>
          <a:srcRect l="0" t="0" r="0" b="12834"/>
          <a:stretch/>
        </p:blipFill>
        <p:spPr>
          <a:xfrm>
            <a:off x="1420920" y="836640"/>
            <a:ext cx="4821120" cy="48960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"/>
          <p:cNvSpPr/>
          <p:nvPr/>
        </p:nvSpPr>
        <p:spPr>
          <a:xfrm>
            <a:off x="6084720" y="587700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ndalus"/>
                <a:ea typeface="Andalus"/>
              </a:rPr>
              <a:t>Preguntas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2T14:34:21Z</dcterms:created>
  <dc:creator>Ampa</dc:creator>
  <dc:description/>
  <dc:language>en-US</dc:language>
  <cp:lastModifiedBy>aula</cp:lastModifiedBy>
  <dcterms:modified xsi:type="dcterms:W3CDTF">2017-06-20T13:51:06Z</dcterms:modified>
  <cp:revision>28</cp:revision>
  <dc:subject/>
  <dc:title>Diapositiva 1</dc:title>
</cp:coreProperties>
</file>